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A01D-7DE8-4AA5-8031-6DED15AA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0082-6C38-4D2B-BEFC-327F0C54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0F92-3B24-4133-BA6B-185828A0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4C77-E45A-458C-89B7-01F34E117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A65F-C4A6-4870-B615-72AB2C2D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91B5-00F1-46F5-BBDA-7C774927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EB2A-0CCC-4079-9886-EAECCF5F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0051-57B7-4BEE-817C-1D03D857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4CAC-85BA-4368-9C81-639152B8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6399-6B93-40F0-83E7-3E55C95F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1509-94D3-4D63-AA40-87D386C3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0A43-3200-47F1-B331-29F426FC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6C51-A549-4EF2-B1E9-A5EC3A9E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45A5-4621-46BC-AC80-9D98BED5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0CD0-52CB-432C-9A89-AB14A464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2958-36ED-43AE-BE90-64F45A2A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0DFB-01A3-48B2-8002-4EFB6627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C4DF-A855-44A4-A1D5-9DB9DCAB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E555-B4A1-428D-ACF7-AD10B495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9AE9-56F0-426C-B263-DECA189B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5868-E957-4A3D-99B4-448DE07D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5565-2CA0-42C5-B1C3-2C445703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76DD-4176-48C5-B7D2-115AEA05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1589-F014-4FDB-B62B-C2A6E311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0F60-777F-4CCD-8B79-FC754E88D9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91E5-9451-4EBF-9956-1E09455C49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ОУ ВПО «ВОЛЖСКИЙ ГОСУДАРСТВЕННЫЙ ИНЖЕНЕРНО-ПЕДАГОГИЧЕСКИЙ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НИВЕРСИТЕТ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47640" y="2565000"/>
            <a:ext cx="70106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 И П Л О М Н Ы Й    П Р О Е К 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 тему: Стратегическое планирование в управлении коммунальным комплекс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932360" y="4292640"/>
            <a:ext cx="3960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УДЕНТ                      Д.С.Гусе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УКОВОДИТЕЛЬ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А.Н.Голубц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3348000" y="630864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ижний Новгород 201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Источниками финансир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редиты, выделяемые муниципальным образованиям на подготовку к зим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редства, составляющие 0,1% от восстановительной стоимости жилого фонда, и выделяемые отдельной строкой в бюджетах муниципальных образований для финансирования программы оснащения жилого фонда приборами учета тепловой энерги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редства, формирующиеся в жилищно-коммунальных организациях при оплате населением коммунальных услуг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Разработанные мероприятия позволяю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ократить затраты на содержание и эксплуатацию жиль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беспечить экономические интересы населения при переходе отрасли ЖКХ на безубыточный режим функционирова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беспечить надежное тепло и водоснабжение без расширения существующих энергоисточнико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пособствовать созданию экономического механизма стимулирующего процесс энергосбереж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лучшить финансово-хозяйственную деятельность предприятия, повысить прибыльность, увеличить рентабельность, снизить расход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8001000" cy="64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ка стратегического плана организации жилищно-коммунальной сферы на примере ООО «Жилсервис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80010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бъект исследования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щество с ограниченной ответственностью «Жилсервис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мет ис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стратегическое планирование организаций жилищно-коммунальной сферы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68360" y="347760"/>
            <a:ext cx="518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Цель дипломного проект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549360"/>
            <a:ext cx="80010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Задачи дипломного проек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смотреть теоретические и методические основы стратегического планирования деятельности предприят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анализировать деятельность организации жилищно-коммунальной сферы на примере ООО «Жилсервис»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разить оценку воздействия факторов окружающей среды на деятельность предприят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ставить разработку стратегического плана предприятия с учетом влияния факторов внешней сред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сновать выбор стратегического плана предприятия с экономической точки зр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еоретическая значимос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оекта заключается в изучении основных аспектов стратегического планирования организаций жилищно-коммунальной сфе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актическая значимос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сследования состоит в том, что материалы исследования могут быть использованы в работе руководителя, менеджера предприят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Основные понятия и определения дипломного проек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тратегия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грированная модель действий, предназначенных для достижения целей предприятия. Содержанием стратегии служит набор правил принятия решений, используемый для определения основных направлений деятель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ратегическое планировани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- это одна из функций управления, которая представляет собой процесс выбора целей организации и путей их достиже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Этапы разработки стратегического планир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ределение миссии и целей организаци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нализ среды, включающий в себя сбор информации, анализ сильных и слабых сторон фирмы, а также ее потенциальных возможностей на основании имеющейся внешней и внутренней информаци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ыбор стратеги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еализация стратеги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ценка и контроль выполн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8001000" cy="9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Основные виды деятельности ООО «Жилсервис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правление многоквартирным домом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обретение коммунальных ресурс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ксплуатация инженерных систем здани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держание жилищного фонда и нежилых помеще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казание услуг населению по сбору средств за коммунальные услуг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казание услуг предприятиям по платежам и расчетам за коммунальные и другие услуги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ые виды хозяйственной и коммерческой деятельности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редложения по повышению эффективности управления организации ООО «Жилсервис»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вершенствование структуры управле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ка информационной систем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стема постоянного повышения квалификации работник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ка системы подбора, обучения, оценки и перемещения руководящих кадр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та по созданию культуры организаци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работка стратегии развития организации на основе анализа ее сильных и слабых сторон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Мероприятия по внедрению энергосберегающих технологи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нение на системах теплоснабжения технологий стабилизационной обработки подпиточной вод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деление контурной и сетевой вод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нение пароструйных насос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становка предизолированных труб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нение индивидуальных тепловых пункт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нащение муниципального жилого фонда и организаций бюджетной сферы приборами учета и регулирования энергоресурсов и вод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9T06:34:18Z</dcterms:created>
  <dc:creator>DSGusev</dc:creator>
  <dc:description/>
  <dc:language>en-US</dc:language>
  <cp:lastModifiedBy>Ната</cp:lastModifiedBy>
  <dcterms:modified xsi:type="dcterms:W3CDTF">2010-06-26T09:22:46Z</dcterms:modified>
  <cp:revision>11</cp:revision>
  <dc:subject/>
  <dc:title>Слайд 1</dc:title>
</cp:coreProperties>
</file>